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EF6-5456-4907-9087-CFAF3C2E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D724-F5BA-4192-9A56-E28AA0C18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4653-EE14-4D26-9BE0-6FB7AFA0A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4F02-E2C1-48B3-821C-85D6FF293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A585-E376-449F-B652-5AED1C29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E5A5-3132-47F2-806D-E24BE5829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0CEE-5481-4A97-9689-C6819E507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5156-3DB1-479C-BB4A-47A493AFE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A702-EE35-448B-A919-C133257A2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A107-9837-4AA6-A671-ED5CC48CA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ED7-D40B-4B2D-B016-96DFD4463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8E7-1188-49B7-A215-A51B17BEC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91B2-1C9D-48E2-BC36-DD817BBD1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E527-AAC2-478D-84AC-5699290DD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D59B-7DA8-452C-9812-A7EDF0292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B257-0C03-4461-9C16-AB4B9507D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3AD7-9927-4A43-8289-CE34EF330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3DD9-0DA5-4146-B99A-DD52C4FBC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9223-6C4D-4863-9502-3FDA3EB6D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9F85-5BD1-49A9-A66C-8702E11C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D64-1D18-43C7-91E3-358D0EB17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587F-DB48-41D4-9692-238613AD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F06A-081C-4FF0-9712-3F5C39FE4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9D72-FB27-4EC2-AA3C-1FFDD63BD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4BA6-C54D-4E91-AE2D-B6F3F74B6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FD89-4CE6-49BB-A54B-77E7E09E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602E-F374-41E7-AD3B-7FE716909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09C1-1F40-4D53-A8D6-088ABB9E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988F-C7C9-484E-A5DE-200C60E8BE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662B-F6AA-4314-AD5F-084AC932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C84E-264A-4216-91B2-4F2DDF3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7B52-B86B-4A48-8DD0-5D19229F5D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E5C7-FFB4-47D0-B917-FD09A1EE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1971-82D6-43A1-8350-49227574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DC9D-B51D-400E-AD78-8E919A35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9C6F-4447-49A1-9A00-9BCA0620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7C9E-145A-4ADC-A2F3-053096F9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1474-3874-462D-977E-92E42A47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50E4-035E-4A8E-9DE6-1C61833C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AF6E-57E4-49F2-AD81-5D2B763C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9705-A77A-4D89-8C39-3DCE7036F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FFE8-6BA9-467C-BEB5-DED2B469D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School District Budgeting 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7B85-EE6B-40F7-A9A2-C27EE9731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ary Refor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 Item Budg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 Budg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ro Based Budg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5F85-52C2-42A5-B8C9-9CDC24698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school character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tudents by gr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 free and reduced price lunch eligible (or poverty measure used in your 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 English Language Learners (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 of students with disabilities that qualify for special education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3FE4-372A-409A-939D-226EFCAD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Example using an Element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nel Re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5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:2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st teachers @ 20% of core teac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al facilitators/coaches (1 per 200 studen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tors for struggling students (1 per 100 poverty studen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B24C-27AE-4ADF-A8E2-BC5FA5C6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Resourc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 for ELL (1 for every 100 ELL stud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day (1/2 poverty enrollment at ratio of 1:15 at 0.25 F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School (1/2 poverty enrollment at ratio of 1:15 at 0.25 F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811A-2E6E-4EEA-A5A0-15378E0F4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th mild and/or learning disabilities (3 additional professional teacher positions per 432 stud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th severe disabilities (100 percent state reimbursement minus Federal fun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fted Students ($25 per student based on total school enroll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1275-E8C6-4990-911E-EC069314E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Eleme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pil support staff (1 for every 100 poverty stud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instructional aides (2 for every 432 stud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ian/medial specialist (1.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 (1.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clerical staff (1 secretary [12 mo.] one clerical [9 mo.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31B-D6A9-4B12-86E6-3A83323D9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Eleme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develop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d in above estim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ors/c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summer days for planning and pr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0 per pupil for other PD expenses such as trainers, travel, conference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839B-634C-4DF0-A71E-945531444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hool Site Budgets Using the Evidence Based Adequacy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Eleme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-- $250 per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al materials -- $140 per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activities -- $200 per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676A-A67E-45BB-8600-EECCEE442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ents of a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ypical Budg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Summ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nation of Expenditure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A3FE-558F-4403-A8D1-5F13F7D3D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Budget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ntendent’s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get Cale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delines for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ge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2BA8-950F-428D-97CC-122A0937B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 Out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 to Budg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Stu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2AFC-2A7E-421E-AEB6-0AC84A50E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ment Fore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 and Correla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u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imate populat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65A0-D81B-4B52-9370-B1039409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Personne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d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ertificated, Non-Admin.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Adminis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Office Adminis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ed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17E0-8811-41B1-9281-90B358886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Specific Programs Around Which Budget is to be Constru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ertain Resources Needed to Operationalize the Tasks Essential to Each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Costs of the Resources Needed for 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89DC-11EA-4327-B94F-1CCF8EEE1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penditur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0F30-FB55-42AE-9131-414876F6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of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ources of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Appro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D3EE-0689-4E84-A9F6-BA11DA0B3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ion of Funds to School Sit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ollar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llocations based on staffing rat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taff (site or distric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and op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80DB-AC3E-4A4F-8CC1-41B850471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ion of Funds to School Sit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Approa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ed pupil methods (“fund the chil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 percent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327-CF11-46DC-BA45-E44744FF2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tt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.4% of resources distributed to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es on a weighted pupil formula plus a base allocation for eac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 Francis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 allocated to schools on staff basis using average staff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revenues to schools based on student character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education is a central responsibility in both distri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7DA-FFAA-4F16-AD2E-CC62748E7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is a Budget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ocument which specifies the planned expenditures and anticipated revenues of a school district in a given fiscal year, along with other data and information relating the fiscal elements to the educational philosophy, programs, and needs of the distri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rt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3F65-6A29-458C-B09A-64D8B5475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dget Triang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62" name="Object 1024"/>
          <p:cNvGraphicFramePr/>
          <p:nvPr/>
        </p:nvGraphicFramePr>
        <p:xfrm>
          <a:off x="1039680" y="1981080"/>
          <a:ext cx="70628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981080"/>
                    <a:ext cx="7062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12F9-29A0-4C6C-8C10-8266D2068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Do We Need Budget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Public Budgets Differ from Private Company Budg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 Budget Tell U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C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0414-E8BD-401E-AAEB-56895664D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ur Functions of a Budg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y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philosophy of school board, administration and comm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zes that philosophy in terms of re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9EF5-5AD1-484B-98F3-E48B2DAE6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ur Functions of a Budg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Gu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al 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accoun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ccoun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 strengths and challenges of education program with the comm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how educational dollars are sp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the district’s programs and prio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0819-AFB8-4E43-A0BD-CE2DCC34F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atures of Classical Budge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2008 The McGraw‑Hil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BF8F-2EB6-489E-BB7D-14FE6C63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 Activ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review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six features of Classical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ertain how well budgets meet each of the six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strengths and weaknesses identified in the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14:27Z</dcterms:created>
  <dc:creator>AllanO</dc:creator>
  <dc:description/>
  <dc:language>en-US</dc:language>
  <cp:lastModifiedBy>AEURY</cp:lastModifiedBy>
  <cp:lastPrinted>1998-11-17T16:53:48Z</cp:lastPrinted>
  <dcterms:modified xsi:type="dcterms:W3CDTF">2011-06-12T19:52:48Z</dcterms:modified>
  <cp:revision>70</cp:revision>
  <dc:subject/>
  <dc:title>No Slide Title</dc:title>
</cp:coreProperties>
</file>